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F5E26-31C6-4DFE-8E81-A61140719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D1173-6287-491A-878B-A91A3AF88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178BE-25D5-4D10-B536-F5CD08956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E1CDC-B9A0-4676-9F07-095B83757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D53A2-27F4-4B6E-A410-105A79EB0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8602A-DA22-4F62-A7DF-A51134638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F90FE-75DF-4F53-88DF-0F89A882B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4A3B3-567F-4F6A-B07A-85FB75D21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9A66C-A667-464B-8021-FD7CD5908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B86FF-7309-4D6E-A125-5507C06BF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FFF54-B4BC-4EE1-BE7E-98BF53DF0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93C5E-C8AA-447B-8147-4A9B6FE31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4E80B-F17D-469B-ABAF-E49356537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2EE14-F836-4B88-AB58-1021A889F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93254-96AF-4F7D-AAFF-AFC712A0C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56B7D-0F44-44B4-9B2F-0FAE98FEB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70F3B-5211-434B-8720-B9E20048D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EBC21-3CDA-465A-80DF-4CB1FE4B0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B1823-3AA2-42EF-8AD9-D1EF075EC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8CADA-90CA-4B05-BE0D-4C1B70CEE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26B89-2604-43BB-8ECB-776715206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FD47B-0FE3-4F79-98FD-6ECF04697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91469-1D03-4793-BA07-236BDA2B4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010DF-5580-45B7-AB07-19B4742B2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cfb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D33DF-1B80-4EE7-80F2-1679740C82B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cfb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CA390-561A-4889-93AC-8F3CBB0EEB0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cfb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.3: Real Zeroes of Polynomials Fun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bruary 13, 20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cfb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vide polynom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 the division algorithm, remainder theorem, and factor theor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ctor higher degree polynom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lyze polynomials with multiple zero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rational zer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ve polynomial equ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cfb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vide polynomi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vide by a monom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3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6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7)/(2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viding by binomials or hig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2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4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x+6)/(x+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cfb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nderstand the division algorithm, remainder theorem, and factor theore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vision algorith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(x) = d(x) * q(x) + r(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inder theor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f(x) is divided by x-k, the remainder is f(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ctor theor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(x) has x-k as a factor if and only if f(k)=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cfb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ays to factor polynomials fun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phically– see where the zeros 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synthetic algebra– if you know one zero (k), factor out x-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ctor out x if pos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cfb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f you know the zer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(x)= a(x-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(x-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… et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(x)= 2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25x+7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eros 11/2 and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cfb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our assign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ge 288-29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6-22 ev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6, 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3T16:41:54Z</dcterms:created>
  <dc:creator>nuhs</dc:creator>
  <dc:description/>
  <dc:language>en-US</dc:language>
  <cp:lastModifiedBy>nuhs</cp:lastModifiedBy>
  <dcterms:modified xsi:type="dcterms:W3CDTF">2008-02-13T21:31:37Z</dcterms:modified>
  <cp:revision>3</cp:revision>
  <dc:subject/>
  <dc:title>4.4</dc:title>
</cp:coreProperties>
</file>